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79BB-6ED2-4D90-9A45-C2F514D6967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8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Research: 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and strategies involved in data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and strategies involved in data interpre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iterative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ing/memo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coming familiar with the data and identifying potential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b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amining the data in depth to provide detailed descriptions of the setting, participants, and ac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assify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tegorizing and coding pieces of data and grouping them into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/Memo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nd write memos of all field notes, transcripts, and observer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 an initial sense of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time through qualitative data it is critical to write down your initial thoughts as you will never look at the data with ‘fresh’ eyes ag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to search for recurring themes or common threa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thorough and comprehensive descriptions of the participants, the setting, and the phenome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ons are based upon your observations, interview data, artifac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lete understanding of the context is a result of descri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may describe in chronological order, or another fr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how participants define their situations and explain their action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eps in Analyzing Qualitative Research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cation includes breaking down data through coding and then categorizing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es are necessary for analy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tegories developed may not be the same categories another researcher would devel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t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way to begin analyzing qualitative data is to consider the big picture and start to list themes that have emerged through data collection and literature review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themes is a strategy that works well during memoing ph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ng qualit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entails categorically marking or referencing units of text with codes and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allows for identification of patterns and mea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searchers find using cards helpful in the coding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takes time and attention to detai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lines for 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photocopies of your original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through the data and add working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 and paste blocks of text to cards and meaningfully label the c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cards with similar lab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sit and resort cards a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key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through a series of questions can assist qualitative data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ho has resources? When does this problem occur? Who is centrally involv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ing an organizational 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characteristics of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vision and mission, organizational structure, goals and objectives, problems and conc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an ask participants to create concept maps of their persp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ing antecedents and consequ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ly mapping the causes and effects allows researchers to see potential causal relations in the context or in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Strate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ing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displays can assist researchers in summarizing data they have colle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rixes, graphs, figures, concept m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ng what is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note what components are still missing from their understa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also identify remaining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data is a formidable task for all qualitativ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is difficult, time-consuming, and challen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involves summarizing data in a dependable and accurate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takes pat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qualitative data requires the researcher to be refle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Data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searchers use software to assist in analyzing their qualitative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will not analyze qualitative data without active participation and decision making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Data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ciding whether to use qualitative data analysis software consider the following ques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amount of data very large (i.e., more than 500 page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dequate training avail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resources available to purchase and use the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need to capture specific quotes from the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data interpretation four primary questions are address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important in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can be learned from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hat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data interpretation is pers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Interpretation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 the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questions about th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 findings with pers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advice of critical fri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ze findings in the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 to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en to say w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uring credibility of th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researchers can ask themselves questions to check the quality of their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data based on observation or hears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observations corroborated by oth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circumstances was an observation made or repor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uring credibility of th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liable are those providing the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motivations may have influenced a participant’s repo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biases may have influenced how an observation was made or repor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 in qualitative research begins with initial interactions in the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n the field, qualitative researchers must consider how they will make sense of the data that they are collec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goes through iterations while collect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her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ing prior data to new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ing up field notes before re-entering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ing plans to collect new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is careful not to jump to conclusions too early during data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during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 and analysis interact in qualitativ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litative researcher asks questions while collect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hat new ideas have emerg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es this focus mean? What else do I want to kn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s my research question still answerable? Am I collecting the kind of data I want and am I filtering out data that I don’t wa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fter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data analysis is indu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rowing the data into smaller meaningful important groups of ke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t a single method for analyzing qualitativ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difficult to set a time frame for qualitative analy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rio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after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data is multi-stage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researchers must know their data intimatel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organizing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dates on all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all notes with lab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 notes according to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photocopies of all notes and retain original cop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Analysis and Interpre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computer files into folders by type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back-up copies of all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data and make sure all information is 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to note themes and patterns as they eme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3:55:46Z</dcterms:modified>
  <cp:revision>89</cp:revision>
  <dc:subject/>
  <dc:title>AutoCAD Architecture 2008: Part I: Getting Started</dc:title>
</cp:coreProperties>
</file>